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D700-A09F-4997-8EC9-2C2F25A8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A95-E257-439F-A557-E07F71AB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DEFC-64C3-4115-A599-F6D692B9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56AF-1C20-49E0-93C2-F3BD6085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9F95-7A83-4412-A8EF-A3419678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8AEA-57A5-4AA1-8E88-92A194B3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225E-4CEC-4ACC-A5EB-A097247A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5F04-B992-408A-A375-F5716CB9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037F-CA8E-4CB8-AD26-2CEA1456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175B-A2B3-4312-A09D-D2DADF80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72ED-73EB-4DAA-A88A-7F74D9DE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61C8-9348-47FA-BAB2-76B9AC8C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CE12-70D1-4481-8B6E-D87CD2FD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CD21-944C-4171-A44E-D8474CDD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2883-56A4-47AA-A54E-FFEB079B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84C4-AF23-497C-AD26-C7DFC418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D91A-41B3-4E77-9D98-1B6B95BA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018F-CDA6-4269-BD84-37F30EFF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DEBC-05D1-4011-B07C-82EC4684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B2E4-14F9-41EF-8239-2F8C3A81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C16C-D951-4E15-9772-20A04198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D86F-CBCE-4984-BD4D-D4F8B7C5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4CF4-5194-4105-BE04-E9533CD8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6CB5-E945-4CC2-AE68-C4E2BD55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844B-9BAB-439C-9755-A7B5574C6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3BAD-399E-4F89-A037-4F6FD2BB3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Scavenger Hunt</a:t>
            </a:r>
            <a:br>
              <a:rPr sz="44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A vocabulary game from Mentoring Minds</a:t>
            </a:r>
            <a:br>
              <a:rPr sz="18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Grades 1-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mall groups or partners to search for examples of their vocabulary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Scavenger Hu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class into small groups or partn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each student group 4-5 vocabulary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search the room for examples of their words, depending on the words have students record examples or actually collect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tudent groups share their words and examples with th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inning team is the first group to find examples for all of their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3:57:35Z</dcterms:created>
  <dc:creator>Ann Weeks</dc:creator>
  <dc:description/>
  <dc:language>en-US</dc:language>
  <cp:lastModifiedBy>Ann Weeks</cp:lastModifiedBy>
  <dcterms:modified xsi:type="dcterms:W3CDTF">2008-06-29T15:04:43Z</dcterms:modified>
  <cp:revision>10</cp:revision>
  <dc:subject/>
  <dc:title>Light Up the World A vocabulary game from Mentoring Minds Grades 1-4</dc:title>
</cp:coreProperties>
</file>